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F47D-EC40-4454-8442-7ED17E9E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4F7C-59A6-495C-BEC2-22A22BACA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1295-4FFC-4784-95E9-930A6BE7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A72-4F0C-45E0-B935-FD6A797A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27B4-A5B7-44BE-95A0-CBBB8C82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0DAD-C5C0-4CFD-8F92-803F272D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A49-958E-48FF-9F18-70A7C27CD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1604-D01F-4FC7-B222-CADDF2B6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A687-4DEC-4134-B8F7-5C6ADA0A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1483-461E-483F-B8F5-3C619D3B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A763-4AD9-4DD8-AD08-E85DBEC77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B92C-DFD9-4C82-9404-2F860098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A61D-C6A6-4DCC-9E80-99CFB6BBB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55B0-72E9-4692-8799-70B03B62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AC8-2304-42E2-B8E5-4DFD4D54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B570-FFE6-4D15-9FBA-712273A68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0107-CEA4-4334-B2C1-1221A7E7C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551A-C67D-4FDF-941E-CBBC8B4F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4634-7735-48BB-B597-7957973C8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6044-BE37-49C9-96FF-2BCACF30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EEC9-465A-484A-A032-B6868717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D9A2-ABC3-42DA-889C-FCECB3889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9C0-8D04-448F-95A2-A5D70EE9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4A6C-087D-46AA-89E3-1BE588E7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4E0F-FA88-41F9-9DE0-7EDD8693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1580-7AE1-4286-96F3-F81D34AEE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320B-FD8B-48F9-8AE2-961E8FB8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AB2B-E433-434F-8BE4-6BB633A28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674A-D601-4CFE-97B6-57748AF21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EACA-6B8C-4DDA-BCDD-7C29AD795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F3E-60C4-4C79-8B67-B2C6AD393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BDA6-2C3F-460A-B646-A99BD684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2931-0392-4C46-ABFF-99186BFFF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040F-7F09-4539-AAF4-421A06BD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5202-EA85-4247-94E5-173AB5165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7EE7-264D-4293-BD59-9BE53AFFE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5AE5-9B13-4073-8B98-D269F506E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A305-D603-4EEE-8097-EE88584A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43C-F838-463C-91D7-4D10FF66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64B-3EE7-4A1F-A77F-51858A03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289-4DEB-4EEC-90E2-C9B3DAC0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221-46A2-49AF-A68A-7FDC128F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7DD-8876-4CDA-B61A-290B1EAA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B79-42DA-45B8-8111-870B58AB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E0E-88EA-44A4-85D1-6BE25DDD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EE8-0AD2-4ABB-825A-AC0D3BAF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D96-3B13-4126-97FB-93F5369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0FB-9EF0-4FAD-9515-9189639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2B3-9F4F-48E4-8E8A-D04893F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26B-91DD-4F0C-A7B2-B998F37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5B7E-3561-4D47-B6CE-BA5798A16C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800" spc="-1" strike="noStrike">
                <a:solidFill>
                  <a:srgbClr val="003300"/>
                </a:solidFill>
                <a:latin typeface="Garamond"/>
              </a:rPr>
              <a:t>Развој личности, личност и болест</a:t>
            </a:r>
            <a:endParaRPr b="0" lang="en-US" sz="3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Суперего (Над-Ја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Део личности који је настао модификацијом Ега прихватањем родитељских и друштвених утицаја током развоја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У овом делу човекове личности је седиште свести, самоконтроле, забрана,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моралних норми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осећаја кривиц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новна улога Суперега је да спречава и зауставља импулсе, углавном недозвољене или неприхватљиве, који долазе из Ида и теже да се без одлагања задовољ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клоп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Интеграција биолошких (Ид), психолошких (Его) и друштвених (Суперего) снага личности, које се често сукобљавај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Сукоби доводе до настанка страха, за које свака особа онда проналаз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различите одбрамбене механизм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рема теорији С. Фројда, развој сваке личности одвија се кроз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различите психосексуалне етап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азе у развоју - Фројд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30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3000"/>
          </a:bodyPr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Ор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Ан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Фалус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Латенције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Генит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Орална фа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713880"/>
            <a:ext cx="822960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Прва у процесу сазревања и њоме је обележена </a:t>
            </a: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прва година живот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Уста и процес дојења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јесу једини пут којим се доживљава стварност и постиже задовољење нагонских пулзија у виду тактилне стимулациј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Складна понашања и осећања мајке и окружења детета, посебно кроз дојење, условљавају либидинозно задовољство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Уколико се у процесу храњења појаве напетост и страх, задовољење ће бити осујећено и тада може доћи до фиксација и обликовања оралног карактера са израженим цртама као што су: превелика зависност, пасивност, склоност оралним уживањим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Анално-садистичка фа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00120"/>
            <a:ext cx="82296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Трај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од краја прве до треће годин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Либидна задовољења су у овој фази повезана са избацивањем и задржавањем фецеса - овладавањ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функцијом сфинктера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едставља поље којим дете манипулише својом околином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Најзначајнији психолошки садржаји: амбивалентност, бисексуалност и обликовање аналног карактер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Карактеристик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аналног карактер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 су: конформизам, претерана контрола и уздржаност у животу, претерана уредност, шкртост, тврдоглавост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Фалусни стадијум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очињ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од треће године и траје до пет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Генитални органи </a:t>
            </a: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остају доминанатне ерогене зоне и код дечака и код девојчиц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Осећања напетости и страха празне се гениталним путем, мастурбац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Латенциј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Garamond"/>
              </a:rPr>
              <a:t>Траје </a:t>
            </a: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од шесте године до пубертет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Garamond"/>
              </a:rPr>
              <a:t>Опада снага нагонских пулзија, углавном условљена васпитним утицајим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Генитални развојни стадијум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Период пубертета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25800" indent="-32580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Нагонски импулси, карактеристични за прегенитални период, сједињују се са новонасталим гениталним импулси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25800" indent="-32580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оба се од нарцистичког детета преображава у сексуално усмерену 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социјализовану одраслу особу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која показује сексуалну привлачност, планира своје будуће активности и уз партнерске везе, брак и будућу породиц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Психологија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 је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комплексан систем 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сихолошких структура и процеса, односно резултат интеракција између бројних субсисте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 се развија и функционише у непрестаном процесу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интеракција са средином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што је основ за развој и испољавање способности личност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остој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континуитет и кохерентност 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и као целине, кроз све развојне фаз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Континуум у индивидуалном развоју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350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Млађа одрасла доб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Средња доб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Старост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Личнос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Збир свих карактеристика једне особе, која одређује њену јединственост и особеност, по чему се она разликује од свих других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599840"/>
            <a:ext cx="8229600" cy="29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Могућности развоја у одраслом добу?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Старење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риродан и неповратан физиолошки процес, који код сваког напредује различитом брзином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азе старењ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азе развоја у стручној литератури: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примарна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 (физиолошко и уобичајено старење, код свих људи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секундарн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(старење под утицајем неке болести, ограничена на поједине људе или групе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терцијарна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 (кратак временски период од неколико недеља до неколико месеци пре смрти, када животне функције нагло и значајно слабе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тарос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Одређено животно раздобље повезано са хронолошким добом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Биолошка и хронолошка старост нису истоветне, него су условљене генотипском и фенотипском индивидуалношћу човек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У целини старачко доба наступа у оном животном периоду када се појаве објективни и субјективни знаци застоја и назадовања на биолошком, психолошком и социјалном плану код једне особ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Теорије о развоју одраслих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Многе од теорија које највише помажу у разумевању развоја одраслих су често ограничене на једну тему: 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интелектуалног развој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развоја личност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развоја каријер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породичног животног циклуса 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ројд о различитим животним добим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ројд је предложио да је “отац дете човека” и сматрао је да се већина догађаја у одраслој доби може најбоље објаснити разумевањем искустава из раног детињств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Адолесценциј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бухвата знања о физилошком развоју младих измеђ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12. и 26. године живот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одступања од истог, као и начин на који се таква одступања леч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ериод живота од детињства до зрелог, одраслог доб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вај сензибилни период живота у развоју сваке особе се битно издваја од периода детињства с једне стране и одраслог доба с друге стран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Зависи од организације самог друштва, културе, традиције, трајања школовања, запошљавања.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Три фазе адолесценције: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Ран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циј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9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13.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нагл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ст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екундарних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лних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карактеристик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Средњи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тни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стадијум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14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15.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опственог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нтитет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нов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однос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вршњачки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групам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упротни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ло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експериментисањ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Касн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циј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16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?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тпун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физичк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формиран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нтитет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зрел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ј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мишљењ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Развојне</a:t>
            </a:r>
            <a:r>
              <a:rPr b="0" lang="sr-Latn-RS" sz="40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карактеристике</a:t>
            </a:r>
            <a:r>
              <a:rPr b="0" lang="sr-Latn-RS" sz="40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адолесцената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0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Физичк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Когнитивно </a:t>
            </a:r>
            <a:r>
              <a:rPr b="0" lang="sr-Latn-RS" sz="3200" spc="-1" strike="noStrike">
                <a:solidFill>
                  <a:srgbClr val="003300"/>
                </a:solidFill>
                <a:latin typeface="Garamond"/>
              </a:rPr>
              <a:t>-</a:t>
            </a: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 интелекту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Емоцион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Социјално </a:t>
            </a:r>
            <a:r>
              <a:rPr b="0" lang="sr-Latn-RS" sz="3200" spc="-1" strike="noStrike">
                <a:solidFill>
                  <a:srgbClr val="003300"/>
                </a:solidFill>
                <a:latin typeface="Garamond"/>
              </a:rPr>
              <a:t>-</a:t>
            </a: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 интерперсон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Мор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изичк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Секундарне полне карактеристик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Нагли раст, често праћен незграпношћу и трапавошћу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стају јако самопоуздани (утиче телесни изглед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луктуације између хиперактивности и летаргиј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треба за физичком активношћу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Темперамен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нивачи модерне психологије личности сагледавају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темепрамент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као један елемент општих карактеристика индивиду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Олпорт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(Allport) је 1937. године дефинисао темперамент као карактеристичну „емоционалну природу“ индивидуе, која укључује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брзину реаговања и типично расположењ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Сматрао је да је темперамент заснован на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биолошким законитостима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и да је у великој мери наслеђен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Garamond"/>
              </a:rPr>
              <a:t>Когнитивно - интелектуални развој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9720"/>
            <a:ext cx="822960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апстрактно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ишљ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ост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ри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нкретно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ритичко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ишљ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мосвесн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мокритичн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начајан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муникацијских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ештин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вадљив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тенденциј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д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буд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праву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пособно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онош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длук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жељ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слободом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избора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казу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тендециј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к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новим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интересовањима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, ал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лабост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уже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државањ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Емоционалн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стају емоционално непредвидиви, сензитивни и склони испадим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Рањиви на “емоционалне молбе” и тако лаки за манипулисањ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Појачан капацитет за емпат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јачан сексуални нагон - сексуално понашање без размишљања о последицам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Garamond"/>
              </a:rPr>
              <a:t>Социјално-интерперсонални развој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2920" y="1000080"/>
            <a:ext cx="8858160" cy="42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Јака жеља за припадањем (свесни значаја социјалних веза)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Жеља за независношћу и аутономијом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Помак у зависности од родитеља к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висношћу од вршњак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Способност да критички упореде родитеље са други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Тражење „дубљих“ пријатељстава заснованих на заједничким интересима и лојалност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Јако изражено интересовање према супротном полу (мада се често осећају уплашено и непријатно пред њима)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Моралн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071720"/>
            <a:ext cx="871560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енденциј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легализм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фокусиран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правила”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правичност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држав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орал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увер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одитеља,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ал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чињ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естир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авил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з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етињств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заражени”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редностим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ј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опагир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ршњац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Формир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лич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“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вест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раж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оралн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ритеријум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ј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њих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м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мисл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Јачањ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сећај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дговорно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ем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руштв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ширем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мисл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Адолесцентна кри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ауторитет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идентитета (конфузија)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сексуалност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ауторитет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Околина чини (свесне или несвесне) баријере да га прихвати као одраслог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сихосоцијалне претензије адолесцента </a:t>
            </a:r>
            <a:r>
              <a:rPr b="1" lang="en-US" sz="3200" spc="-1" strike="noStrike">
                <a:solidFill>
                  <a:srgbClr val="c00000"/>
                </a:solidFill>
                <a:latin typeface="Garamond"/>
              </a:rPr>
              <a:t>наспрам носиоца норми и забра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асивни/активни отпор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или конфузија идентитет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реиспитивање својих животних циљева и улога у практичној реалној средин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aramond"/>
              </a:rPr>
              <a:t>Ко сам ја? </a:t>
            </a:r>
            <a:r>
              <a:rPr b="0" i="1" lang="en-US" sz="2800" spc="-1" strike="noStrike">
                <a:solidFill>
                  <a:srgbClr val="003300"/>
                </a:solidFill>
                <a:latin typeface="Garamond"/>
              </a:rPr>
              <a:t>Зашто сам такав? Какав би требало да будем? Зашто се уопште живи?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рати је анксиозност, збуњеност, агресија, осећање отуђености, усамљености, инфериорности...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Лака мета одређеним групама: навијачке, религионзне, друштвено - политичк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сексуал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отреб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довољење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изразито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јаког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г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агон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емогућност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реализациј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услед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оцијалн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бран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Манифестуј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аскез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или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ак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мор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детериорац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У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адолесценцији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ткрив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рјентациј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пасност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д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ежељен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трудноћ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олно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реносив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болест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Карактер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Ужи појам од појма личности и подразумева оне аспекте личности који се одређују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 етичким и моралним критеријумим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а испољавају 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оцијалним интеракцијама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(„добар-лош“, „чврст-слаб“ карактер).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Структура карактера представља релативно стабилну и предвидиву организацију и интеграцију низа мотива, ставова, вредности, одбрамбених механизама и начина реаговања у социјалној средини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Ствара се процесом учења у социјалној средин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Теорије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Биологистичке теорије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 (С. Фројд) - подразумевају да се енергија за развој личности добија из биолошких потенцијала нагона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Социопсихолошк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А. Адлер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A.Adler),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К. Хорнај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K. Horney),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Х. С. Саливан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H. S. Sullivan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-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енергетске изворе налазе у социјалној природи човека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Персоналистичк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Г. Олпорт) - способност сваког појединца, различитост од других људи, у другом плану социјални фактори и фактори средине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Теорије типа или теорије црта личности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Н. Ајзенк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H. Eysenck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-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факторска анализа и математичким моделима којима се бројне црте личности смањују на прихватљиву меру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Интерперсоналн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К. Роџерс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C. Rogers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–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целовитост личности и односи са другима;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Теорије социјалног учења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где се развој и понашање личности доводи у везу са оним што особа учи током живота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игмунд Фројд (1900)</a:t>
            </a:r>
            <a:br>
              <a:rPr sz="4400"/>
            </a:b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- несвесно, предсвесно и свесно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ва теорија: целокупна активност људи у основи је несвесна и да су несвесни процеси основа људског бић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не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седиште урођених, биолошки датих нагона, потиснутих жеља и сећања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(примарни процеси)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пред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седиште менталних процеса и опе- рација, као што су способност учења и примена наученог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(секундарни процеси)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део личности код кога је већина операција доступна свес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игмунд Фројд (1923)</a:t>
            </a:r>
            <a:br>
              <a:rPr sz="4400"/>
            </a:b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- Ид, Его и Суперего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Касније, развојно структуралну позицију Фројдове теорије личности замењује описно-тополошко гледишт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редставио нову верзију своје теорије у којој су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Ид, Его и Суперего </a:t>
            </a: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били хипотетичке структуре које леже у основи психолошког функционисањ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Ид (Оно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00120"/>
            <a:ext cx="82296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едставља несвесне снаге, дубоко скривене у свакој л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Те снаге су извор психичке енергије, такозваног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либид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који управља људским животом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вај део људске личности сачињавај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урођени нагони, сексуалне и агресивне потиснуте жеље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које су изван принципа реалитета и не подлежу законитостима времена, узрочности, лог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оцеси се у оквиру несвесног дела личности одвијају п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принципу задовољства / незадовољства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Его (Ја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Део личности који настаје раслојавањем Ида у контакту са реалношћу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битно одређује индивидуу као личност која опажа, мисли, осећа, има ставове према околном свету и сопственој л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функционише према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принципима реалитет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у чијој основи лежи објективно и разложно мишљењ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поседуј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одбрамбене механизме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омоћу којих се бори за опстанак и функционисање под оптималним условим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nmuric91@gmail.com</cp:lastModifiedBy>
  <dcterms:modified xsi:type="dcterms:W3CDTF">2020-10-01T10:31:21Z</dcterms:modified>
  <cp:revision>49</cp:revision>
  <dc:subject/>
  <dc:title>Texto</dc:title>
</cp:coreProperties>
</file>